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type.wav" ContentType="audio/x-wav"/>
  <Override PartName="/ppt/media/laser.wav" ContentType="audio/x-wav"/>
  <Override PartName="/ppt/media/whoosh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015-ED0F-472C-BBF1-2F6C3FE4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6DC-2B99-497D-B281-E04EF791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D15-06D3-4273-B9F5-D3CF5C17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068-C4CD-4C26-B2E8-4DBEBCF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505-47E5-4547-A707-CB20BDA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046D-627B-46EC-B1F2-00B2C47D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DEB-B364-4298-880D-1600723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32E-EE1A-4F9C-BF43-AE709B10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84D-FD77-4AF9-9499-3C4871C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2B0A-2470-4D9F-BBDA-097A482C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9A6-1AB9-4660-9787-B0F3A36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689-095E-4298-9AD0-8E5D9993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113-7CAF-45D0-9179-E10C07D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8F98-53CC-4A1B-82D2-B511E59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CCAE-5094-4C1C-A24B-65E6B11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CBDD-C6FC-4794-957B-6C73BB6A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884-C0BB-4C71-A037-107269A7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52C-747D-42B3-A1D0-87375924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CD6-E8DC-4B4B-BE77-32AC769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F4D-ADDE-491B-A724-6589DD7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C20-B14A-490C-AA44-3711724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EBD-1C23-4919-B88F-0E6EFFC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3E3-53CF-4708-A6A6-87B2728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22D-B246-4E8B-863F-5D2F4E1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1C500E2F-5849-4290-A6D2-8C841009353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2A7CEEFC-A4ED-4147-BD78-B76D2C786FC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204280" y="4216320"/>
            <a:ext cx="47588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to be” or not “to be”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…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5AEF-BEEF-479D-B7E5-5F09CA889D1A}" type="slidenum">
              <a:t>1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D3D-502A-4225-A2D0-CD90D87AEEC3}" type="slidenum">
              <a:t>10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160-FBC1-403C-96CC-3C46A2E2A9D2}" type="slidenum">
              <a:t>11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DB8-7427-4D4D-95AE-826F00CD8169}" type="slidenum">
              <a:t>12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EBF-B14B-4A28-BEDB-F2905DA6B547}" type="slidenum">
              <a:t>13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cation of a person or thing            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 localizació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ndit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condic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mpressions or opin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opin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33A-D130-4370-9A04-34D24CDFD8D0}" type="slidenum">
              <a:t>14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1360" y="822240"/>
            <a:ext cx="66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ESTA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388880" y="258768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ns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252760" y="2206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bier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655000" y="464508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err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459240" y="30448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ervi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289560" y="46450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enferm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3160" y="41878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br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293160" y="594036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onten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901120" y="34257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mp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977480" y="60166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cup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461480" y="525456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uc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026520" y="159696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ondicione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365-CD58-46A5-9436-0D92B9349195}" type="slidenum">
              <a:t>15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154-446D-446B-A589-B609BD2C6EDD}" type="slidenum">
              <a:t>16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F49-8465-4D48-95F4-F6B40F5DC062}" type="slidenum">
              <a:t>17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109-026F-4FAB-A739-5E167A2C4EAF}" type="slidenum">
              <a:t>18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B89-CDF0-4025-8CAB-A411A32CEEAE}" type="slidenum">
              <a:t>19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CA6-8A70-429F-A108-7E6848D01445}" type="slidenum">
              <a:t>2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8E7-E435-43AA-BC15-CA11BA66B24B}" type="slidenum">
              <a:t>20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18F-8C11-4076-975A-4F318CD90E10}" type="slidenum">
              <a:t>21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7080" y="5791320"/>
            <a:ext cx="9907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419720"/>
            <a:ext cx="60984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7339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30481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77320" y="236232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amig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República Dominican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094120" y="3078000"/>
            <a:ext cx="51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as diez de la noch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32560" y="3763800"/>
            <a:ext cx="70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libro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profesora nuev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978840" y="44496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partido de béisbol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 las cuatro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5135400"/>
            <a:ext cx="71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Quién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os estudiantes nuevos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951200" y="582120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Ho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y   /   estoy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nervioso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6FD-AE4C-41B0-B356-8EAD9C71E251}" type="slidenum">
              <a:t>22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34120" y="5791320"/>
            <a:ext cx="99036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44197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3733920"/>
            <a:ext cx="91440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3048120"/>
            <a:ext cx="12952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2362320"/>
            <a:ext cx="68580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1571400" y="236232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ónd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oncierto de rock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1081440" y="307800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Carmen 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mos   /   estamo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ans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647360" y="376380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profesor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pur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1103760" y="444960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libro de histori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interesant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1156320" y="513540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bisabuela n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ontenta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1638000" y="5821200"/>
            <a:ext cx="60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madre siempr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ocupa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9AB-FD2C-489C-A053-0F93F65D70BB}" type="slidenum">
              <a:t>23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43200" y="5791320"/>
            <a:ext cx="7621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5105520"/>
            <a:ext cx="6094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419720"/>
            <a:ext cx="76176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3733920"/>
            <a:ext cx="6098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30481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Y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2108520" y="236232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e quién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amión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721520" y="307800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teatr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cerca de la tien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1632240" y="376380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ñan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omingo, ¿verdad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1822320" y="4449600"/>
            <a:ext cx="56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rgarit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triste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668240" y="51354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a casa nuev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os Garcí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228680" y="582120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Juan y tú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is   /   está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migos buenos, ¿no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FA0-CF27-4D0B-B375-AD4ADF6E61A3}" type="slidenum">
              <a:t>24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0080" y="1025640"/>
            <a:ext cx="90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How you feel and where you are 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always take the verb ESTAR.”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77E-E506-47D0-9477-5961FB111249}" type="slidenum">
              <a:t>25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62A-819A-46A4-A860-0355817FD933}" type="slidenum">
              <a:t>3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mic Sans MS"/>
              </a:rPr>
              <a:t>En el Pretérito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st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mo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iste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Fuer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st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stei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uvier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45E-45A6-4873-AAD8-5ED568FAAA47}" type="slidenum">
              <a:t>4</a:t>
            </a:fld>
          </a:p>
        </p:txBody>
      </p:sp>
    </p:spTree>
  </p:cSld>
  <p:transition spd="med">
    <p:comb dir="vert"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mic Sans MS"/>
              </a:rPr>
              <a:t>En el Imperfecto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Ér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ra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1" lang="es-ES_tradnl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áb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is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</a:t>
            </a: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Estaba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3F2-2ED2-4690-ADB1-43D27A9F443E}" type="slidenum">
              <a:t>5</a:t>
            </a:fld>
          </a:p>
        </p:txBody>
      </p:sp>
    </p:spTree>
  </p:cSld>
  <p:transition spd="med">
    <p:checker dir="horz"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rigin of a person or thing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el orige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dentification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identificació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haracteristics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s característic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elling tim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hor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 and dat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fech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ime and place of an event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un event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With the preposition “de”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possession, material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1D3-E8CF-4E3E-B9B5-9C529270251F}" type="slidenum">
              <a:t>6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1360" y="838080"/>
            <a:ext cx="61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SE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9880" y="25876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uev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254200" y="22068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600640" y="4645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opular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0" y="304488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antás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323760" y="4645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diverti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5480" y="418788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uen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281280" y="594036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riñ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945760" y="342576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014920" y="601668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impá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4482000" y="52545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l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8440" y="159696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aracterística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926-EE46-4C26-8F1C-D8D07F208370}" type="slidenum">
              <a:t>7</a:t>
            </a:fld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824-1D72-4E5A-8A5E-A1E958579953}" type="slidenum">
              <a:t>8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BD1-27FB-4187-ABBF-DB4323865184}" type="slidenum">
              <a:t>9</a:t>
            </a:fld>
          </a:p>
        </p:txBody>
      </p:sp>
    </p:spTree>
  </p:cSld>
  <p:transition spd="med">
    <p:pull dir="d"/>
    <p:sndAc>
      <p:stSnd>
        <p:snd r:embed="rId2" name="whoosh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technician</cp:lastModifiedBy>
  <dcterms:modified xsi:type="dcterms:W3CDTF">2011-01-07T19:00:58Z</dcterms:modified>
  <cp:revision>84</cp:revision>
  <dc:subject/>
  <dc:title>Ser &amp; Estar</dc:title>
</cp:coreProperties>
</file>